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C99F-92A9-4DBE-B0D5-453FC3FA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71F-B123-47F6-9E77-5E5742EF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26F8E-0734-4E86-B100-5F9BB155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78667-570B-4F6C-9E8E-524C5D2F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05302-2BF1-405C-BE5F-68C65FA6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68440-5883-4D6B-A868-BA7695AB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EAD02-92C3-42EC-B9F4-1346533F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8D52A-A522-4F7E-A8B2-6CE99F0F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2D63C-20CF-4F25-AD52-3073852E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FCAFC-5C29-4914-B9BD-25A3F41C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859F1-E798-43E3-84C2-2D9B7B86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FCA27-ADAF-41B3-903D-9EC4F1F2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9881-4133-4516-85C0-CE0CF00C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FB78F-BD1C-4B01-A1A9-41F191CA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76FE6-2569-4A02-9C0F-DCB7F6D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3EEA6-1F01-4ACE-BEF6-05B4C90C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CBB99-FAB8-4D28-8369-02D3321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F8DE5-46EE-429A-92C9-60606D5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330B-75E0-4642-8EC2-79B1C8D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6FBA9-E4A4-4182-9866-DE0AD8F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27BDA-D434-4B39-989E-B32B6E6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43DC4-CFC6-41F8-AA30-0173182C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10D89-705C-482B-9339-A1329FA4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748-BBD3-41CB-A456-ED354950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3F9D6-E24F-459F-BD4C-124B1331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A5BB-9C9C-47D3-A85E-6E687CD4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DEEA-BCA1-4C9A-A97B-F36AB2B6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292F-9FC9-4824-9245-90EA8FD7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755FA-CBCA-4462-AA87-1F4CEA73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F2A4B-77F7-4CFC-A690-BFA60835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899E8-AC2D-46E0-931B-6CC4D05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C53B5-E051-4897-A743-DAF61641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852A-B832-4D43-8B60-CE015B79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AD22D-7918-4AAE-B3FD-E79B53A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0635-FA45-4E65-BFFB-1E20611A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DEECB-7815-4EFC-AF2C-A5E727D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9F8B4-C9EF-4158-8405-3EC3EC6D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99318-564F-487D-A794-770312A2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E9CCB-9EB2-4F4B-BBC2-D8ADD334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B5FB0-32FA-4D68-B75F-3CD87F8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F4F17-E66E-4A42-B55D-505D233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5DCEE-EFDB-49D1-B174-6FF1F972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33022-2830-4AAA-98FF-F8B0B053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26537-0A94-4DD1-B6B9-8DF96FDC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970E5-37C6-441A-91A3-8C271B9F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4CC-531F-4947-A325-26622D2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667F6-5186-4782-A503-7DE732B0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A4816-79DD-4B10-B603-D6ECBF98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D190B-D757-42D8-9561-5B4B1982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78A3D-A71B-4CFA-926C-BDD3ABF8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0988C-6930-4C05-9F83-A583BD42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6A430-A25D-4EFA-9763-5F7DCED7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7E3D3-6E41-4846-ABA8-51F05EB1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CA395-D8E2-4375-8710-383121B9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C305F-836E-4D2D-BB52-EA3F115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D429F-09C2-40A9-92E8-985D7B4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210E-DD4E-459F-AFB2-EFF8BC4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EB1C0-8D96-4A9D-A526-83F502F4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C8875-3950-41C4-9695-0E67B10D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70B39-1752-4E2C-8650-AE049E84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2A109-5999-4B97-9D4C-54B6507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79742-B9A9-4963-8294-1AA6F5A0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716D9-78A3-4C91-AE9E-C00B647C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1017C-1A2F-4FC7-9619-32FDD2F8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FCA73-334F-4950-83FC-E17D675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FE998-50B5-4A36-827B-D16170D1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1708D5-ACD4-4CAE-B003-90F8377B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DE0-6771-47DC-B284-5DB5B535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3CFA2A-8D87-4D6D-8110-F81ABC3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E1306-3010-4D1A-A107-4F1746D1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135AA-F693-457F-8919-00A01C0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11A60-7497-4A2E-AB40-5824F73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23197-252F-46E0-8E35-B7EE81C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67265-4C69-4B4B-8C83-9384AA70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746C8-B841-43A1-B92E-A2A3D0F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56958-6E0E-46F9-AD83-1250B1CB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F8E5C-40E9-466A-AC71-D62300DA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CDD03-6001-4B6B-8D41-F56C39ED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E31E-BC6C-43FE-9994-5DE6D0C9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7E76A-1F94-47F5-8D8E-71D9BB1E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18491-C5D4-428A-ACD9-DF38A2E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D7236-D481-498B-8E55-61B4545D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0401B-1D72-44BE-A336-9F9496C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39492-8DA7-4C84-9822-23075D2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9DD57-92A5-45DA-ACAC-D7624AE9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09976-1E54-41BF-8FED-25D5071D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DAB9B-4E7F-4E67-97EA-253CFF64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7E2D3-A4EE-4E86-B0E8-E5DD77B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09F1B-FD56-480B-9FFC-A1B796B4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B7D2-2E6D-42F1-92B8-1F9516C9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349C0-5275-40E5-A7CC-16EA6026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0AC66B-9A26-4BC5-8221-9DF8E14E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123F2-FE33-4DCA-9278-EECABB0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505D0-2F9C-4572-B980-851EEBD6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48FA5-079F-4D63-BE51-7B06BA7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8496A-8B71-40F2-81F5-7910BCC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5B8F98-713F-467A-94A1-F6B55F2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1DAF6-5E63-4A1B-B3F6-B7E388A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4EF79-6CAE-4E3C-87B9-2ED66927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0BE011-31CD-4EF3-A51D-9C3C877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FC52-6BAF-447A-AC6D-BBDA203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8AD98A-692C-49B0-A5E3-BC9DBFC4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78043-B358-46DC-B0C7-B4F8440B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6B2E9-9764-404F-A8F9-3A4E27A2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662A4-AD61-4D3E-83CE-6E60F6B5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BCDEE5-EF59-428D-82C6-0168BB6C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A0270D-B81F-4060-AB5C-236FF37B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751B3-A883-4B5D-9178-8E4C063E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10B76-E2DA-4BEE-AAA9-F7712A7F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3E310-248B-437F-BCCC-A0C0BBE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0575EE-DA2B-43C9-811F-28E2A92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BB4-5FDD-4184-8DD0-11C8F5F3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3B65-7F39-4D5F-B1F5-B342BC5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EEE98-DC5A-4705-9789-D097949C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C5C55-743B-4E35-8F2B-53148E1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2E65C-97A1-4524-B03D-E62E26BD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96266-DB80-4F03-92FC-0135A3B8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43C98-F6A8-4080-BB89-D3E7B46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40E0F-BC5D-4728-8E9A-5D04A5A2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610002-5A07-4144-84DB-BB45A027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F8111C-670D-4138-B1AF-A0954C3B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21241-BFB7-4BAA-A92D-CE251EC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EAE0E-CFCA-4601-AD15-25AE7672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EC4-AD23-4548-A9EA-713C7605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7A7CF-7AB7-4C3E-ADBF-3CA82E11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5D3E3-FCB9-4632-9A2A-266E6F2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18432-5FD4-40FD-9FC0-5702A3F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9927A-04AE-46ED-A18E-12C643B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D7AE8-F1C6-4CD0-A37E-2865FB10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FA24C-751E-4AA8-9327-8B88EE88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815D1-1E85-458A-A4ED-34D6DA6A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BEFC0-5735-4BE6-8405-94DD4967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0B640-F077-403F-A0E3-9ED85467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D4211-9103-4550-9E87-B1BA139A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30A0-D5D5-4E03-8762-8596C932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FA93E-55F9-4DAF-8B89-84461CA3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DF30D-B05C-4634-B3C3-A7A752CB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4E45C2-8BE9-4258-A883-68EFF53C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17AA9-DDA3-4C18-AED2-1126BB11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A24280-399B-4289-8F19-F23656C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D0A3A-D182-4A3F-9092-B044AA32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89E7D-2DD0-4CF8-8594-1373AF1C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77513-40F7-437D-B09B-B8409FCF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4AEAD-D722-43A9-8491-128E34D6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60296A-91B0-4041-9512-AD840EB8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3779-59BD-4E26-A2EC-162F8B3A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8BCD1-3456-4A29-8521-7B0060F2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168E3-CE52-48FD-971C-BB7729D4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6CD95-5B7D-4D1C-9955-5420D24D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AAE5A-6EF7-47E9-99BD-C4D9FAE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8C82B9-AA23-484C-A176-E0EBD8E8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600D6-7565-4954-BA87-97E6C349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69426A-78C3-4EEA-BCFF-84EE9BE8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56E958-FF56-4435-A73F-E05D6F47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31AE6-D6A5-4533-A3D0-CA238729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1C97D-B5C6-40BB-B5E5-2CC9E202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AEF2-9DF2-4328-BA67-9B94D06D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52C4E-1B51-436F-BFF6-BA40D842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74D0E-746A-435E-B42C-0530C729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9421D-6C20-4628-8F45-5E0A129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F7862-0CB8-41C7-9CF6-67952625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F6176F-16EF-4313-9847-EEFC25AA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565D2-5D06-4416-A829-053947D1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E3B9BC-2C14-4375-8677-31570B92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C197FD-2BEC-44B2-9113-BAD92E23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DED517-C0BC-4D00-AEFB-AA915EAD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014B60-CF40-4CD2-AA1D-FCA2DC46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94606-8D7D-45C3-8F68-852E7DE3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556C9-CD65-4828-ABDC-61CF1F32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E1FB8F-F8BC-4CD9-9B8A-C617F5A2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6004A-36F0-46FD-882B-D92A8460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B0F3C-04C9-4C09-9761-F20C77DE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622FAF-A88E-4B38-9188-C5DACDF5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7D5372-5896-4B78-8203-7076DD7E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D16B9-C33F-4DA6-907A-56F1A287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D17E0-BD81-46EC-BEF3-5B5C9CC2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DF74EE-CA45-4F3B-8D56-9656F92A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88C89F-19D5-4357-9436-1A15CA9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66F97-1A4B-406E-8281-8C731953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6C514-12EB-4094-8C2F-85B5A6C8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5805D-86D9-488F-B845-7DEB8DCE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C4CD66-EE14-4041-8B8E-F43F864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66241-D487-4E63-8B77-6C55C2C7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D5FBB-7073-4993-8933-A4605285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13407F-DE57-41C8-B7FC-B280FF8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8807E-2407-46A4-9214-8DCFC9E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BD82D-986E-45B5-8D48-BE09A98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5E2D3E-6FC0-4B68-B328-2F673576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57195E-E78A-40AE-9F56-24CC0FF8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2098B-EE99-42D7-B656-BAB9A425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115034-9E3C-4A64-91BB-67D6A09A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AA7D70-4609-461A-AB8D-AE9E022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8E481-A7A9-474A-87A1-FEC4927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DA1D73-7AE7-41CA-BDF6-324174C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72771B-4D11-4091-9717-624F671C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5212DB-1936-4998-9FE2-B781DCAC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12DE35-B7D5-4FA0-9EC6-D0BA5152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86993C-A838-4767-AA47-D8CC2A05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DF2C2-5B32-4FD7-A97C-C12C06F4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C2300D-2901-4B18-8F7A-BB10E7D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5ED00-B791-41E7-A976-78187EF3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A4D20F-D2A4-4CD7-93A8-152AB71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781BF6-0A05-46A7-9276-12742909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B83250-A05F-4B4C-BB7E-616293B6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6F1FAB-0D25-43BE-B211-ACEFEE4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26562-D0D8-476F-9BBF-ED138684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FEE26F-7F1F-425B-9673-7FC7F78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C7C31D-DA14-4FA6-8665-D080A39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29655D-C774-4AFA-99E9-B3E3D8F6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171666-DFB4-417D-B77C-8C4ED20F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118224-D3E8-4F2F-B263-AADD7382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6DC5-CC1D-4297-821B-36A67E80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2AA6FA-291A-4716-92B9-EAA0222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79D79A-6976-41D6-B36A-7AC90C65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19A9BB-A6A4-4FCF-A810-316EB9C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B8092-CCF3-47A2-BAB5-AD1462E9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4591BD-3AEC-434B-B7AB-57B45B4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1CE74E-E797-4269-9740-7620688A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D0D5DC-7360-43F2-AC3D-C35D631F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BBE16A-80E2-42AE-8E4A-DD99284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4B86BAF-278A-43BA-A870-C0011070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0DE23C-A27D-49D9-BB10-F5585D38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9A4-2317-4885-9BC8-F3F50AEC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9A15-82FD-4861-A12F-5821ED89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3617A7-A457-4729-B390-9B64AA91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2591C6-AB39-4235-90CD-500FE579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124261-90FD-46A8-854F-F3EE4017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8F7BD9-867C-4AEA-9805-D56747C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F0B620-28FD-4A74-B3CA-F1C4C31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324400-AC67-4A52-A08F-28C428A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89EF23-841B-420E-BE6F-A3208954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138AA4-3683-4527-94C3-7ACD1E36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FBBDB5-6F76-4536-9775-A8621B2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294C0C-A6E9-4984-A941-D84E5A5A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209A-8F4B-49A0-AC6A-89A7A0E9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C790BB-B879-44B5-9FF7-14452F80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0A1F59-6CA7-4C1D-829B-A6BC48A8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711C68-8C47-414C-8348-0BBFCB54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276C48-B77F-4B4E-9E6A-C91724C8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D1334D-7F4F-4FB2-83AD-6AE740D1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B7F9FB-F8DE-4301-B353-395E7C0B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1D38A8-CEF2-4AAA-82A1-40B11345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1A99F7-CEA3-4D07-ACCD-596B8DC4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ADAE8C-107C-4F9D-84D5-B8A70D4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F5969E-FF2B-46A8-92E7-6718BA89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C0D7-8987-4112-998A-50917607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BBC8F-7EA0-477E-9C95-C3C47BF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A108B3-CEE2-495F-BEE7-2FCE3ACC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E985F0-1047-4691-B10D-95C6B27A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AE5A8B-F251-43B9-B06C-211FF995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E2AEA7-B645-4BE9-9402-7C482E40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E5ECFD-FE62-460F-80C0-5041EEA1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0A54F0-05BC-4818-AB48-ECC0979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A344FA-E7B0-4DD1-A65F-5B316C4E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8852B0-D44B-41CA-857E-B850288F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7EC4C8-D7D4-4CEA-A890-C0FDEC47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56078-736C-4E46-9E0B-3155119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AEABF3-7B73-47A5-AEBE-432B8A2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8C34A0-419B-4867-A92C-6604A836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B799F7-AF1B-4BF3-A9FF-E364B0D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33F047-F682-4113-A92E-5D5905F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D9716E-04ED-4F62-9155-83E6A5E1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2916DD-184B-4D44-A2AC-57A7DD4E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D146A6-F1F9-4F89-8C91-303CDBB6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C2E028-4098-4703-B0E1-FC3FF013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458949-085C-4C00-9E94-3809B329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160F66-45C7-4E47-B5B4-C82FA576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4B81-260C-4D25-8FAF-EECF972F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F0A63E-7C9C-49D8-A521-62B1ECD9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80EFFC-078A-4900-B8AF-8336583A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08B8E9-6EC6-442A-A2E9-0DA1495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BAFDD4-362E-4312-9BD0-41C72554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1DEC8F-86C2-4D4D-A8BA-15F65E8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E4F75C-5727-43F1-82F3-8057A33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C69C16-9C05-44E6-A6A5-B549F8D2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0EF0C5-96C9-403C-A7CE-FA42005D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DB281F-2CD0-45EB-A131-688D524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473047-C9B0-4894-85BC-9DEFC901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D748-246D-4C29-B81A-66EDE622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9FCCCD-A650-4079-803D-FFC1E0DB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282459-1128-4588-821E-39ED526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388C6A-AF55-4F98-BB82-54EB4E0D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8CB85-7DCC-4B1F-9B5E-8FA4737C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616132-AE48-4516-A036-E732C4F2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C21A00-EDF4-4EA5-BD58-A2520530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717E56-1468-42E9-91F0-3EB6977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7D60E5-40B0-4A68-89E0-2B9F6B49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DCAD37-9D50-4276-A80C-2540369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90BDEA-4A67-4EAA-85B7-2A4CE356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0A60-A125-499E-9318-4A2C12CA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4F6B91-55C8-473C-9DE5-3A384C5B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042099-A6B4-4450-B57A-30EE612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111AF8-5704-4592-BD82-DAB52F73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5E496A-54D0-48C2-8E34-8C70984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5541FA-ED69-4D04-9D35-21FFB3F2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7A9E22-17AA-4AEA-841E-9AABC9D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B52C19-1EB4-41DD-896D-CDF1492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7B45E9-5F7D-418E-BE51-64FD690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F8157C-A688-4059-BE05-A5AA657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AD6463-FD56-4875-913A-7E47599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7D15-E8DE-4C0E-944C-D40D85DB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1CB16B-D4B6-47CD-91A1-4FDC7B9E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61B8CF-4F73-4A4F-B3D0-3D01B8A8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197CC2-5C5E-4335-AB90-A1C9A859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BFD69-B58C-4B98-B558-4BF7F73C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4E44-5847-4FEA-8B70-26078BAD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33-DBF0-46BF-8F1E-8A40893C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FE9E-51AE-4780-97EF-A80072FB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6B8C-2861-462E-9FA2-172F39BD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74584-244E-46E6-A268-D4E2F3D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614D-7FC7-4C7B-B740-6BD37BB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15D62-7663-47F8-859F-B192719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661CB-7AB6-417E-B6D9-914AAA6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611D-055C-40FD-89CB-8FB1784B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DF1C2-6A86-4E3E-BF44-8C9592F2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B2F2-2BE9-4F03-9890-BC95C595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6699-C25B-48A3-B93F-AAB25763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3DC-1658-4A72-97D3-8BECBE8E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B4F26-8436-46CD-9996-0785C6D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C3B1F-C729-4068-9592-83236A28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1651-BB96-4887-A368-11EB1A09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7240A-9EC0-4379-97B3-DFC43A2B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9EDF9-EC6C-4D06-864F-3AEE8A5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7A55-45B3-4F5D-ABC2-6D2D4F3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A4900-9ABF-47CA-9317-89620D0E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137DD-FADC-46B2-A363-6A003D07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E5B51-C3CB-43B2-8D46-32F4AAA4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6270C-C21C-4AF9-B6E9-228F8BF0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A4D-AAF0-440F-8E7E-F928975C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31E9F-7F85-4CAF-BD46-F2F6987A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7E11A-2805-4052-A5A9-E16B6BAD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54753-161F-4995-95C3-35B0901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4BD2-68A7-444E-921F-719E10D3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22DB-65EC-4CD1-AADC-A9B56660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7553-11CF-4920-A2D1-80753D0F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4941F-899C-49BD-899D-5E45CD1F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76E66-29B0-4BC1-822F-99F99353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1E502-5B50-439A-B6A3-522CD21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086E3-8B8B-478B-AC3D-5B80D640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75B-6556-440D-B544-9FFC3F0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117EF-F687-49D0-B01C-A3D78EFF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CA6D5-AE3E-470E-954F-ABF3751D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1E4C-E212-4257-997B-79011E3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3573B-9887-4F85-8644-04A3084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C530F-955A-4F99-B4EA-B0148C95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443EA-9611-41FF-B6D0-70F275D9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08548-11D6-404A-8D7F-14BA27D4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7B7A4-67B6-4568-BE07-2275D61A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168B0-C0E4-48F3-9E9D-69DD75F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0352-5C94-4862-81D7-067DF9E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FB0-13F1-4DDB-B08E-0D1A1F4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C815-4909-49D2-83B4-3595F1B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718F0-1A7D-45CB-868C-0E8BDAF8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9EEA9-E96B-4DA3-B0B7-59C512A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F20A-1FF9-46DB-B488-926EBA67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09D70-9D73-417E-BE19-9EAC7D18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7AEAA-82DD-485A-9E14-14F96BB9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D6CDD-228C-46F1-B80C-8A4E7A8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039E-5174-4299-83C9-E76D822B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264A8-2946-425F-A224-6CF35B36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8310F-9ADA-4C1C-8DFE-BE61DFE6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23D-DD3C-482E-B674-4D8635B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58301-C3FD-4695-A088-34B52F7C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7A80C-7D18-4590-825C-D75A6228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1BFFC-CE26-4554-A22F-E78AD3AB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DF7E1-8559-4113-B7C7-EEFCB30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C3DF1-7C8E-4CED-9163-0EF054BE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41668-F0E6-43E9-B8BF-2278CD08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1652-8F08-4A42-8414-7E754485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940E3-B053-4C41-8483-0B8E17DD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FAB3B-1887-4157-B89B-1C4B7361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EE8D6-3770-4E6A-97A0-C173B360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144-BE7B-479C-9254-2DADCD8098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C6ED-698D-49A5-AE9A-E75843F4D8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AEB-5FE0-48CA-BB60-6BC182D939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BAA6-4430-4FE6-B3FD-5BE153303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F64-4B45-411B-97F8-F8834D1FE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07B7-58CC-47CA-AF5B-7245E004D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A5DB-27F0-4E59-BB42-1043B2EAF7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644-76A7-4FE8-86D4-65A71EF4D3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7F7-44C1-494A-B891-DB61E57766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81D-EA7F-4871-90C3-6332372767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C0D-FA96-4852-B135-E240355C6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1DBA-5D17-40E2-A6DD-8479D7B37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FF6-4090-4DB8-85CC-F56C274850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BC00-AAE3-4096-A19A-6A5197C15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E47-1093-4EE4-8A88-85F6A297E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30B-09DB-4CD5-9B2B-575280F0D3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DD27-C4F9-4127-8AB5-BA703F78D5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2144-72C4-438C-9451-B7F5E170D0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75B-E947-47AB-B951-1EA95CCC5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321-C469-455C-81F5-0CD054FF4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4C2-1640-4FDF-AB44-39D7F61F18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F1D1-403B-4CF3-B2BC-9990B8487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CC1-9A81-4D70-8D07-81A600DB5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ECB3-C761-4773-B704-8F696412F2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80F-247A-4C91-B504-29FD31F060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778-2EA9-4E8A-B55C-8A3A541A6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C450-4040-467F-8A05-DFFD97097E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75DF-B433-441A-9D9C-AD3DCA8DA0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012A-943A-4957-A4FC-15368DF32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D996-1A6A-4151-87F7-C32D5B4B9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1E8F-D9AB-4795-9ECB-CCF6719259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C347-E125-4DA2-8580-B37397A888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427-630C-4436-9E6A-39F77DB1B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BE29-DCC1-4A06-9297-DA3195C18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0E0-B549-43CD-9E21-5FE028130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63C5-358C-46EC-9E42-8D5D25D5BD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58C-30B0-45E9-A3A7-54E55029BF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0BDF-6B35-4433-B4F3-89AC76309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F90F-9B51-46FE-A8F4-1373D4A5F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B4A9-F329-4BFB-9188-DFE5C7815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F59-D5CF-4B58-AC9A-4D4FDBF52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1194-7748-45F3-9488-A5D3584D2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9DAE-604E-4463-8255-8A63704B4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3BA2-B236-46D0-8462-3A42DD528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22C-11A6-4D4A-B65C-4465C1E10F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86F-3417-422B-A9A1-1EDC69DBD0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F4B-8540-4E00-A835-135B6740E5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529A-AE8E-414F-B201-43469547D5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FA4-BE7B-47E7-9327-1E297AF93C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3591-4912-4928-AFDD-000BF632D2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492360" y="2276640"/>
            <a:ext cx="1886040" cy="5428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243240" y="2943360"/>
            <a:ext cx="2390760" cy="57132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2503440" y="3606840"/>
            <a:ext cx="38005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6739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1280" cy="183816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6740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943600" cy="187632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116741" descr=""/>
          <p:cNvPicPr/>
          <p:nvPr/>
        </p:nvPicPr>
        <p:blipFill>
          <a:blip r:embed="rId3"/>
          <a:stretch/>
        </p:blipFill>
        <p:spPr>
          <a:xfrm>
            <a:off x="541440" y="4273560"/>
            <a:ext cx="7953120" cy="799920"/>
          </a:xfrm>
          <a:prstGeom prst="rect">
            <a:avLst/>
          </a:prstGeom>
          <a:ln w="0">
            <a:noFill/>
          </a:ln>
        </p:spPr>
      </p:pic>
      <p:pic>
        <p:nvPicPr>
          <p:cNvPr id="1474" name="图片 116742" descr=""/>
          <p:cNvPicPr/>
          <p:nvPr/>
        </p:nvPicPr>
        <p:blipFill>
          <a:blip r:embed="rId4"/>
          <a:stretch/>
        </p:blipFill>
        <p:spPr>
          <a:xfrm>
            <a:off x="1042920" y="5084640"/>
            <a:ext cx="6581880" cy="1629000"/>
          </a:xfrm>
          <a:prstGeom prst="rect">
            <a:avLst/>
          </a:prstGeom>
          <a:ln w="0">
            <a:noFill/>
          </a:ln>
        </p:spPr>
      </p:pic>
      <p:sp>
        <p:nvSpPr>
          <p:cNvPr id="1475" name="矩形 116743"/>
          <p:cNvSpPr/>
          <p:nvPr/>
        </p:nvSpPr>
        <p:spPr>
          <a:xfrm>
            <a:off x="7662960" y="216360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6744"/>
          <p:cNvSpPr/>
          <p:nvPr/>
        </p:nvSpPr>
        <p:spPr>
          <a:xfrm>
            <a:off x="7667640" y="472428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15713" descr=""/>
          <p:cNvPicPr/>
          <p:nvPr/>
        </p:nvPicPr>
        <p:blipFill>
          <a:blip r:embed="rId1"/>
          <a:stretch/>
        </p:blipFill>
        <p:spPr>
          <a:xfrm>
            <a:off x="585720" y="1042920"/>
            <a:ext cx="7972560" cy="477216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15714"/>
          <p:cNvSpPr/>
          <p:nvPr/>
        </p:nvSpPr>
        <p:spPr>
          <a:xfrm>
            <a:off x="7748640" y="153504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4689" descr=""/>
          <p:cNvPicPr/>
          <p:nvPr/>
        </p:nvPicPr>
        <p:blipFill>
          <a:blip r:embed="rId1"/>
          <a:stretch/>
        </p:blipFill>
        <p:spPr>
          <a:xfrm>
            <a:off x="571680" y="1176480"/>
            <a:ext cx="8001000" cy="450504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4690"/>
          <p:cNvSpPr/>
          <p:nvPr/>
        </p:nvSpPr>
        <p:spPr>
          <a:xfrm>
            <a:off x="5634000" y="1620720"/>
            <a:ext cx="28735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1"/>
          <p:cNvSpPr/>
          <p:nvPr/>
        </p:nvSpPr>
        <p:spPr>
          <a:xfrm>
            <a:off x="1692360" y="2060640"/>
            <a:ext cx="11588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4692"/>
          <p:cNvSpPr/>
          <p:nvPr/>
        </p:nvSpPr>
        <p:spPr>
          <a:xfrm>
            <a:off x="3203640" y="2997360"/>
            <a:ext cx="432108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4693"/>
          <p:cNvSpPr/>
          <p:nvPr/>
        </p:nvSpPr>
        <p:spPr>
          <a:xfrm>
            <a:off x="6877080" y="3429000"/>
            <a:ext cx="169236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4694"/>
          <p:cNvSpPr/>
          <p:nvPr/>
        </p:nvSpPr>
        <p:spPr>
          <a:xfrm>
            <a:off x="1730520" y="3882960"/>
            <a:ext cx="6253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4695"/>
          <p:cNvSpPr/>
          <p:nvPr/>
        </p:nvSpPr>
        <p:spPr>
          <a:xfrm>
            <a:off x="5435640" y="4346640"/>
            <a:ext cx="259704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4696"/>
          <p:cNvSpPr/>
          <p:nvPr/>
        </p:nvSpPr>
        <p:spPr>
          <a:xfrm>
            <a:off x="7667640" y="4797360"/>
            <a:ext cx="10447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4697"/>
          <p:cNvSpPr/>
          <p:nvPr/>
        </p:nvSpPr>
        <p:spPr>
          <a:xfrm>
            <a:off x="1692360" y="5229360"/>
            <a:ext cx="1492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3665" descr=""/>
          <p:cNvPicPr/>
          <p:nvPr/>
        </p:nvPicPr>
        <p:blipFill>
          <a:blip r:embed="rId1"/>
          <a:stretch/>
        </p:blipFill>
        <p:spPr>
          <a:xfrm>
            <a:off x="557280" y="1090440"/>
            <a:ext cx="8029440" cy="467712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3666"/>
          <p:cNvSpPr/>
          <p:nvPr/>
        </p:nvSpPr>
        <p:spPr>
          <a:xfrm>
            <a:off x="5734080" y="3067200"/>
            <a:ext cx="88272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3667"/>
          <p:cNvSpPr/>
          <p:nvPr/>
        </p:nvSpPr>
        <p:spPr>
          <a:xfrm>
            <a:off x="6638760" y="4859280"/>
            <a:ext cx="18925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3668"/>
          <p:cNvSpPr/>
          <p:nvPr/>
        </p:nvSpPr>
        <p:spPr>
          <a:xfrm>
            <a:off x="1643040" y="5310360"/>
            <a:ext cx="63882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112641" descr=""/>
          <p:cNvPicPr/>
          <p:nvPr/>
        </p:nvPicPr>
        <p:blipFill>
          <a:blip r:embed="rId1"/>
          <a:stretch/>
        </p:blipFill>
        <p:spPr>
          <a:xfrm>
            <a:off x="905040" y="1276200"/>
            <a:ext cx="7333920" cy="4305600"/>
          </a:xfrm>
          <a:prstGeom prst="rect">
            <a:avLst/>
          </a:prstGeom>
          <a:ln w="0">
            <a:noFill/>
          </a:ln>
        </p:spPr>
      </p:pic>
      <p:sp>
        <p:nvSpPr>
          <p:cNvPr id="1493" name="矩形 112642"/>
          <p:cNvSpPr/>
          <p:nvPr/>
        </p:nvSpPr>
        <p:spPr>
          <a:xfrm>
            <a:off x="6524640" y="1257480"/>
            <a:ext cx="127332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2643"/>
          <p:cNvSpPr/>
          <p:nvPr/>
        </p:nvSpPr>
        <p:spPr>
          <a:xfrm>
            <a:off x="2340000" y="1719360"/>
            <a:ext cx="228276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2644"/>
          <p:cNvSpPr/>
          <p:nvPr/>
        </p:nvSpPr>
        <p:spPr>
          <a:xfrm>
            <a:off x="1979640" y="3068640"/>
            <a:ext cx="37306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2645"/>
          <p:cNvSpPr/>
          <p:nvPr/>
        </p:nvSpPr>
        <p:spPr>
          <a:xfrm>
            <a:off x="1870200" y="3529080"/>
            <a:ext cx="642600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2646"/>
          <p:cNvSpPr/>
          <p:nvPr/>
        </p:nvSpPr>
        <p:spPr>
          <a:xfrm>
            <a:off x="1695600" y="3981600"/>
            <a:ext cx="882360" cy="3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11161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924360" cy="990720"/>
          </a:xfrm>
          <a:prstGeom prst="rect">
            <a:avLst/>
          </a:prstGeom>
          <a:ln w="0">
            <a:noFill/>
          </a:ln>
        </p:spPr>
      </p:pic>
      <p:pic>
        <p:nvPicPr>
          <p:cNvPr id="1499" name="图片 111618" descr=""/>
          <p:cNvPicPr/>
          <p:nvPr/>
        </p:nvPicPr>
        <p:blipFill>
          <a:blip r:embed="rId2"/>
          <a:stretch/>
        </p:blipFill>
        <p:spPr>
          <a:xfrm>
            <a:off x="500040" y="1805040"/>
            <a:ext cx="6067440" cy="428400"/>
          </a:xfrm>
          <a:prstGeom prst="rect">
            <a:avLst/>
          </a:prstGeom>
          <a:ln w="0">
            <a:noFill/>
          </a:ln>
        </p:spPr>
      </p:pic>
      <p:pic>
        <p:nvPicPr>
          <p:cNvPr id="1500" name="图片 111619" descr=""/>
          <p:cNvPicPr/>
          <p:nvPr/>
        </p:nvPicPr>
        <p:blipFill>
          <a:blip r:embed="rId3"/>
          <a:stretch/>
        </p:blipFill>
        <p:spPr>
          <a:xfrm>
            <a:off x="520560" y="2247840"/>
            <a:ext cx="5229360" cy="390600"/>
          </a:xfrm>
          <a:prstGeom prst="rect">
            <a:avLst/>
          </a:prstGeom>
          <a:ln w="0">
            <a:noFill/>
          </a:ln>
        </p:spPr>
      </p:pic>
      <p:pic>
        <p:nvPicPr>
          <p:cNvPr id="1501" name="图片 111620" descr=""/>
          <p:cNvPicPr/>
          <p:nvPr/>
        </p:nvPicPr>
        <p:blipFill>
          <a:blip r:embed="rId4"/>
          <a:stretch/>
        </p:blipFill>
        <p:spPr>
          <a:xfrm>
            <a:off x="530280" y="2781360"/>
            <a:ext cx="6353280" cy="68580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11621" descr=""/>
          <p:cNvPicPr/>
          <p:nvPr/>
        </p:nvPicPr>
        <p:blipFill>
          <a:blip r:embed="rId5"/>
          <a:stretch/>
        </p:blipFill>
        <p:spPr>
          <a:xfrm>
            <a:off x="611280" y="3746520"/>
            <a:ext cx="5981760" cy="704880"/>
          </a:xfrm>
          <a:prstGeom prst="rect">
            <a:avLst/>
          </a:prstGeom>
          <a:ln w="0">
            <a:noFill/>
          </a:ln>
        </p:spPr>
      </p:pic>
      <p:pic>
        <p:nvPicPr>
          <p:cNvPr id="1503" name="图片 111622" descr=""/>
          <p:cNvPicPr/>
          <p:nvPr/>
        </p:nvPicPr>
        <p:blipFill>
          <a:blip r:embed="rId6"/>
          <a:stretch/>
        </p:blipFill>
        <p:spPr>
          <a:xfrm>
            <a:off x="627120" y="4730760"/>
            <a:ext cx="2876400" cy="647640"/>
          </a:xfrm>
          <a:prstGeom prst="rect">
            <a:avLst/>
          </a:prstGeom>
          <a:ln w="0">
            <a:noFill/>
          </a:ln>
        </p:spPr>
      </p:pic>
      <p:pic>
        <p:nvPicPr>
          <p:cNvPr id="1504" name="图片 111623" descr=""/>
          <p:cNvPicPr/>
          <p:nvPr/>
        </p:nvPicPr>
        <p:blipFill>
          <a:blip r:embed="rId7"/>
          <a:stretch/>
        </p:blipFill>
        <p:spPr>
          <a:xfrm>
            <a:off x="1806480" y="276552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5" name="图片 111624" descr=""/>
          <p:cNvPicPr/>
          <p:nvPr/>
        </p:nvPicPr>
        <p:blipFill>
          <a:blip r:embed="rId8"/>
          <a:stretch/>
        </p:blipFill>
        <p:spPr>
          <a:xfrm>
            <a:off x="5013360" y="276228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6" name="图片 111625" descr=""/>
          <p:cNvPicPr/>
          <p:nvPr/>
        </p:nvPicPr>
        <p:blipFill>
          <a:blip r:embed="rId9"/>
          <a:stretch/>
        </p:blipFill>
        <p:spPr>
          <a:xfrm>
            <a:off x="1787400" y="3726000"/>
            <a:ext cx="1724040" cy="733320"/>
          </a:xfrm>
          <a:prstGeom prst="rect">
            <a:avLst/>
          </a:prstGeom>
          <a:ln w="0">
            <a:noFill/>
          </a:ln>
        </p:spPr>
      </p:pic>
      <p:pic>
        <p:nvPicPr>
          <p:cNvPr id="1507" name="图片 111626" descr=""/>
          <p:cNvPicPr/>
          <p:nvPr/>
        </p:nvPicPr>
        <p:blipFill>
          <a:blip r:embed="rId10"/>
          <a:stretch/>
        </p:blipFill>
        <p:spPr>
          <a:xfrm>
            <a:off x="4756320" y="3722760"/>
            <a:ext cx="1723680" cy="733320"/>
          </a:xfrm>
          <a:prstGeom prst="rect">
            <a:avLst/>
          </a:prstGeom>
          <a:ln w="0">
            <a:noFill/>
          </a:ln>
        </p:spPr>
      </p:pic>
      <p:pic>
        <p:nvPicPr>
          <p:cNvPr id="1508" name="图片 111627" descr=""/>
          <p:cNvPicPr/>
          <p:nvPr/>
        </p:nvPicPr>
        <p:blipFill>
          <a:blip r:embed="rId11"/>
          <a:stretch/>
        </p:blipFill>
        <p:spPr>
          <a:xfrm>
            <a:off x="1635120" y="4686480"/>
            <a:ext cx="1724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30" descr=""/>
          <p:cNvPicPr/>
          <p:nvPr/>
        </p:nvPicPr>
        <p:blipFill>
          <a:blip r:embed="rId1"/>
          <a:stretch/>
        </p:blipFill>
        <p:spPr>
          <a:xfrm>
            <a:off x="376200" y="1057320"/>
            <a:ext cx="8391600" cy="474336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4931"/>
          <p:cNvSpPr/>
          <p:nvPr/>
        </p:nvSpPr>
        <p:spPr>
          <a:xfrm>
            <a:off x="4770360" y="2181240"/>
            <a:ext cx="290844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1332000" y="2565360"/>
            <a:ext cx="290808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6867360" y="262260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1547640" y="3025800"/>
            <a:ext cx="91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3564000" y="3016080"/>
            <a:ext cx="503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1258920" y="3429000"/>
            <a:ext cx="9129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7"/>
          <p:cNvSpPr/>
          <p:nvPr/>
        </p:nvSpPr>
        <p:spPr>
          <a:xfrm>
            <a:off x="7164360" y="384192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8"/>
          <p:cNvSpPr/>
          <p:nvPr/>
        </p:nvSpPr>
        <p:spPr>
          <a:xfrm>
            <a:off x="2268360" y="424980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39"/>
          <p:cNvSpPr/>
          <p:nvPr/>
        </p:nvSpPr>
        <p:spPr>
          <a:xfrm>
            <a:off x="5373720" y="4240080"/>
            <a:ext cx="14270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0"/>
          <p:cNvSpPr/>
          <p:nvPr/>
        </p:nvSpPr>
        <p:spPr>
          <a:xfrm>
            <a:off x="8397720" y="4230720"/>
            <a:ext cx="503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4941"/>
          <p:cNvSpPr/>
          <p:nvPr/>
        </p:nvSpPr>
        <p:spPr>
          <a:xfrm>
            <a:off x="1116000" y="4653000"/>
            <a:ext cx="84600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4942"/>
          <p:cNvSpPr/>
          <p:nvPr/>
        </p:nvSpPr>
        <p:spPr>
          <a:xfrm>
            <a:off x="3103560" y="5041800"/>
            <a:ext cx="846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4943"/>
          <p:cNvSpPr/>
          <p:nvPr/>
        </p:nvSpPr>
        <p:spPr>
          <a:xfrm>
            <a:off x="2916360" y="5445000"/>
            <a:ext cx="119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4944"/>
          <p:cNvSpPr/>
          <p:nvPr/>
        </p:nvSpPr>
        <p:spPr>
          <a:xfrm>
            <a:off x="4932360" y="5445000"/>
            <a:ext cx="503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3905" descr=""/>
          <p:cNvPicPr/>
          <p:nvPr/>
        </p:nvPicPr>
        <p:blipFill>
          <a:blip r:embed="rId1"/>
          <a:stretch/>
        </p:blipFill>
        <p:spPr>
          <a:xfrm>
            <a:off x="399960" y="2043000"/>
            <a:ext cx="8344080" cy="27720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3906"/>
          <p:cNvSpPr/>
          <p:nvPr/>
        </p:nvSpPr>
        <p:spPr>
          <a:xfrm>
            <a:off x="7334280" y="245124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3907"/>
          <p:cNvSpPr/>
          <p:nvPr/>
        </p:nvSpPr>
        <p:spPr>
          <a:xfrm>
            <a:off x="2484360" y="2852640"/>
            <a:ext cx="647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3908"/>
          <p:cNvSpPr/>
          <p:nvPr/>
        </p:nvSpPr>
        <p:spPr>
          <a:xfrm>
            <a:off x="5148360" y="326088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3909"/>
          <p:cNvSpPr/>
          <p:nvPr/>
        </p:nvSpPr>
        <p:spPr>
          <a:xfrm>
            <a:off x="1476360" y="3664080"/>
            <a:ext cx="21160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3910"/>
          <p:cNvSpPr/>
          <p:nvPr/>
        </p:nvSpPr>
        <p:spPr>
          <a:xfrm>
            <a:off x="6697800" y="407664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3911"/>
          <p:cNvSpPr/>
          <p:nvPr/>
        </p:nvSpPr>
        <p:spPr>
          <a:xfrm>
            <a:off x="1258920" y="4470480"/>
            <a:ext cx="1125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22881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53440" cy="476244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22882"/>
          <p:cNvSpPr/>
          <p:nvPr/>
        </p:nvSpPr>
        <p:spPr>
          <a:xfrm>
            <a:off x="8177040" y="242100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2883"/>
          <p:cNvSpPr/>
          <p:nvPr/>
        </p:nvSpPr>
        <p:spPr>
          <a:xfrm>
            <a:off x="8172360" y="378936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21857" descr=""/>
          <p:cNvPicPr/>
          <p:nvPr/>
        </p:nvPicPr>
        <p:blipFill>
          <a:blip r:embed="rId1"/>
          <a:stretch/>
        </p:blipFill>
        <p:spPr>
          <a:xfrm>
            <a:off x="390600" y="1614600"/>
            <a:ext cx="8362800" cy="362880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21858"/>
          <p:cNvSpPr/>
          <p:nvPr/>
        </p:nvSpPr>
        <p:spPr>
          <a:xfrm>
            <a:off x="8196120" y="2182680"/>
            <a:ext cx="36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1859"/>
          <p:cNvSpPr/>
          <p:nvPr/>
        </p:nvSpPr>
        <p:spPr>
          <a:xfrm>
            <a:off x="8172360" y="4149720"/>
            <a:ext cx="36036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20833" descr=""/>
          <p:cNvPicPr/>
          <p:nvPr/>
        </p:nvPicPr>
        <p:blipFill>
          <a:blip r:embed="rId1"/>
          <a:stretch/>
        </p:blipFill>
        <p:spPr>
          <a:xfrm>
            <a:off x="547560" y="1047600"/>
            <a:ext cx="8048880" cy="476280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20834"/>
          <p:cNvSpPr/>
          <p:nvPr/>
        </p:nvSpPr>
        <p:spPr>
          <a:xfrm>
            <a:off x="7815240" y="263052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9809" descr=""/>
          <p:cNvPicPr/>
          <p:nvPr/>
        </p:nvPicPr>
        <p:blipFill>
          <a:blip r:embed="rId1"/>
          <a:stretch/>
        </p:blipFill>
        <p:spPr>
          <a:xfrm>
            <a:off x="528480" y="1733400"/>
            <a:ext cx="8087040" cy="33912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9810"/>
          <p:cNvSpPr/>
          <p:nvPr/>
        </p:nvSpPr>
        <p:spPr>
          <a:xfrm>
            <a:off x="7786800" y="1744560"/>
            <a:ext cx="5014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8785" descr=""/>
          <p:cNvPicPr/>
          <p:nvPr/>
        </p:nvPicPr>
        <p:blipFill>
          <a:blip r:embed="rId1"/>
          <a:stretch/>
        </p:blipFill>
        <p:spPr>
          <a:xfrm>
            <a:off x="561960" y="1647720"/>
            <a:ext cx="8020080" cy="356256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8786"/>
          <p:cNvSpPr/>
          <p:nvPr/>
        </p:nvSpPr>
        <p:spPr>
          <a:xfrm>
            <a:off x="7812000" y="220500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7761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8010720" cy="49435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7762"/>
          <p:cNvSpPr/>
          <p:nvPr/>
        </p:nvSpPr>
        <p:spPr>
          <a:xfrm>
            <a:off x="7758000" y="1468440"/>
            <a:ext cx="50184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1:44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